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1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FA4A9-B902-4B09-BE4D-CC3DEFB38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D7CF4-FAAA-4D88-90A9-3141E270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E9E4E-8A7A-416B-AC25-641C2A8C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88A20-C117-4D11-A76E-DE1B2E2C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DCEF6-BD81-4F50-BD96-9EC9285F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34A7F-D52D-4DEF-84BC-636323A22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AE249-FAFA-4366-86D2-7EB7ACAE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onents that have a publicly hosted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laxy, MAKER Web Annotation Service, WebGBrow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ip side to not being monolithic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metimes integration is not smoo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37572-9188-443E-8EBB-0DEE29FCF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DF6FE-FF41-4653-B838-9599F75B9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21DBE-03A4-47B5-9F2F-35B0744D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5DD34-31B0-481A-A683-EFB2E5A24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10BEF-D331-478A-8BB0-B49DF891F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1C643-E5FF-49C5-8346-BF5CBC494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ything el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2EA19-8182-4D3D-99D3-689AC523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6360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0880" y="83772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632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6360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0880" y="3582360"/>
            <a:ext cx="2844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14076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04040" y="358236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040" y="837720"/>
            <a:ext cx="431172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320" y="3582360"/>
            <a:ext cx="8835840" cy="25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407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837720"/>
            <a:ext cx="883584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104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83808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001042"/>
          </a:solidFill>
          <a:ln w="9360">
            <a:solidFill>
              <a:srgbClr val="5d09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0"/>
            <a:ext cx="5410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900" spc="-1" strike="noStrike">
                <a:solidFill>
                  <a:srgbClr val="ffffff"/>
                </a:solidFill>
                <a:latin typeface="Arial"/>
              </a:rPr>
              <a:t>The State of GMO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638680"/>
            <a:ext cx="574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h 2011 GMOD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 National Evolutionary Synthesis Center (NES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 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76520" y="5578560"/>
            <a:ext cx="1371600" cy="127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4880" y="6183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25680" y="2057400"/>
            <a:ext cx="5742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cott C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MOD Project Coord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ntario Institute for Cancer Research (OIC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cott@scottcain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1447920"/>
            <a:ext cx="6477120" cy="380880"/>
          </a:xfrm>
          <a:prstGeom prst="rect">
            <a:avLst/>
          </a:prstGeom>
          <a:solidFill>
            <a:srgbClr val="edf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6320" y="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52280" y="5630760"/>
            <a:ext cx="167652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58572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0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istributed databases and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/track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ig, BigWig and BA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JAX track ren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utomatic summary t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2.2 relea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r accounts im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Details multip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iPad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Ru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Browse 2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55080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00" y="784080"/>
            <a:ext cx="6881760" cy="5307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82000" y="90000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082000" y="5327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082000" y="3995640"/>
            <a:ext cx="909720" cy="96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8082000" y="2340000"/>
            <a:ext cx="909720" cy="966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7027920" y="145260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029360" y="5845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029360" y="451332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029360" y="2857680"/>
            <a:ext cx="960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18200" y="2917800"/>
            <a:ext cx="1079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70680" y="1512720"/>
            <a:ext cx="1282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1680" y="4618080"/>
            <a:ext cx="841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6920" y="5954760"/>
            <a:ext cx="1230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g/S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92320" y="2825640"/>
            <a:ext cx="6824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localhost/cgi-bin/gb2/gbrowse/yeast_mysq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362320" cy="2203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0440" y="1027080"/>
            <a:ext cx="291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nthony deCatanza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hristopher Vandeve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eter Ruz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an Dav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0200" y="4775040"/>
            <a:ext cx="183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920" y="374508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m Ho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77320" y="3429000"/>
            <a:ext cx="2020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mar L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le Wi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ara Mitc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105520" y="5638680"/>
            <a:ext cx="3902040" cy="1082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589720" y="938160"/>
            <a:ext cx="2974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people than I could possibly name, and you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 set of interoperable open-sourc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software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components for visualizing, annotating, and managing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n active </a:t>
            </a:r>
            <a:r>
              <a:rPr b="1" lang="en-US" sz="3200" spc="-1" strike="noStrike">
                <a:solidFill>
                  <a:srgbClr val="001042"/>
                </a:solidFill>
                <a:latin typeface="Arial"/>
              </a:rPr>
              <a:t>community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 of developers and users asking diverse questions, and facing common challenges, with their biological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838080"/>
            <a:ext cx="883908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680" y="893880"/>
            <a:ext cx="29178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2.00-2.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rowse 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 1.1-1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al 0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spcAft>
                <a:spcPts val="1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ine 0.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New to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Web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Web interface for creating GBrowse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IG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1042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28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Biologist-friendly” interface for Erga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gle Summer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opefull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http://gmod.org/GS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ooperative application between Reactome, WormBase, and GM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9 suggested ideas with 8 possible mentors (and many more should the need ar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San Diego/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Brows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sed a Ubuntu VMware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5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GMOD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Presentations on GBrowse_syn, Galaxy, MAKER, Tr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tended by about 80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t least 25 workshops, tutorials and posters involving GMOD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.org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Moved from CSHL to OI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 year in th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Updated the News entry interface—way easier to add i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Create a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Add a template at the bott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  <a:ea typeface="ＭＳ Ｐゴシック"/>
              </a:rPr>
              <a:t>{{NewsItem|2011/03/05}}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issue in Database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Virtual”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Theory, tutorial or community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1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coming GMOD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8380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October 2011: Toronto, Canad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1437"/>
              </a:spcBef>
              <a:spcAft>
                <a:spcPts val="1437"/>
              </a:spcAft>
              <a:buClr>
                <a:srgbClr val="001042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1042"/>
                </a:solidFill>
                <a:latin typeface="Arial"/>
              </a:rPr>
              <a:t>April 2012: Washington, DC (in conjunction with the Biocurator me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6:56:20Z</dcterms:created>
  <dc:creator>GMOD / NESCent</dc:creator>
  <dc:description/>
  <dc:language>en-US</dc:language>
  <cp:lastModifiedBy>Dave Clements</cp:lastModifiedBy>
  <cp:lastPrinted>2009-10-27T11:05:13Z</cp:lastPrinted>
  <dcterms:modified xsi:type="dcterms:W3CDTF">2011-02-28T18:22:40Z</dcterms:modified>
  <cp:revision>55</cp:revision>
  <dc:subject/>
  <dc:title>PowerPoint Presentation</dc:title>
</cp:coreProperties>
</file>